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0FB5-725F-4797-AC69-FADC7334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73AB-8717-4487-8287-2CA9FFA5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E823-A5C0-4278-A528-7FD7894A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AED8-9F37-48C6-BFC0-ADC20F26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A1F3-74CB-4220-8D38-F09169F10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CFC1-F06D-4C4B-9AFF-6B8EA2A7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22DC-F7EC-4A4A-9BAF-C434638F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E079-5FCE-4BC2-863E-EEBE5D75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9886-862C-4BD7-AF30-A628FEF5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CBDB-75A8-4714-8A60-B40EED2E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15F1-DC2F-4ABB-AD9F-819A3E0E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1E77-FE4B-48DC-BC35-CAB659D3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BFA4-D81A-4A8F-AD18-4D1D1784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0437-3B73-4C0E-AF04-59AD3572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7E4B-0077-4565-9DD2-0A0B4730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4392-FBEC-4A49-8C6F-C1356D6E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313D-00A7-4286-A5C3-D0347F46B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D218-9F35-49C3-BB18-9CCEDDEE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BF97-177E-442C-8E3D-243DEAA9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366B-471B-47B1-A0B5-2E4C1820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FF74-D6CB-4C2E-B0F4-8D16C906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B9B3-FA6F-49A2-A208-C9672F8D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4A10-A62E-4B66-95C8-1E7931A3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C3DE-81C4-44D1-A1AB-9E9698AA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A80E-A9FB-4451-B53B-AC44063C12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D43C-EFAA-4A8C-8D79-60711ED8F9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bc.com/saturday-night-live/video/clips/theodoric-of-york/2888/" TargetMode="External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Medical Practitioner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Y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re of the Sic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ing group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th heal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othecaries (Pharmacis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ge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w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6628" t="2190" r="0" b="0"/>
          <a:stretch/>
        </p:blipFill>
        <p:spPr>
          <a:xfrm>
            <a:off x="4267080" y="3276720"/>
            <a:ext cx="322128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th Heal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ns &amp; Evil Spir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ry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tal Disorders- actually help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urg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advanced research in medical fi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ndred or more prescribed drugs per single pre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bloodletting was more effective in speeding patients to their grave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loodlett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d Bloo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by Physicians and Apothec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lance of good hum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 Humors: 1)Leeches 2)Liver 3)Arteries 4)Mus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odoric of York-SNL sk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nbc.com/saturday-night-live/video/clips/theodoric-of-york/2888/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urge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more progress than other medical fie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able to butchers and barber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u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ttle fie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errible screams of people whose limbs were being sawed off echoed across the battle fields and through hospitals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238720" y="2055960"/>
            <a:ext cx="28576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idwiv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ch Hun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ed w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 as good as 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3:59:01Z</dcterms:created>
  <dc:creator>MNS</dc:creator>
  <dc:description/>
  <dc:language>en-US</dc:language>
  <cp:lastModifiedBy>MNS</cp:lastModifiedBy>
  <dcterms:modified xsi:type="dcterms:W3CDTF">2009-12-07T15:07:14Z</dcterms:modified>
  <cp:revision>5</cp:revision>
  <dc:subject/>
  <dc:title>Medical Practioners</dc:title>
</cp:coreProperties>
</file>